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A9C7-24B3-4696-A43E-983C33349B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8176-2F2D-42D1-8B53-1B3EF7F74C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ulka č. 5: Vztah životních orientací a úrovně zralosti osob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ide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VITEL, MUD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l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JAGO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ÁVAZN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v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BĚRATE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NÁLEZ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4EEE-348B-47DE-9E1C-6C6757E56C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52C8-60C0-4B94-A2F8-9601ED5532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52B1-C7D9-45E0-9C0F-7AAA6B20AB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8248-F899-4E24-A003-8D57513906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052-BFC0-40AE-9093-B548615384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9E33-9A57-4C8B-8294-D48CA31323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845B-70FD-48AF-B99E-D3A8DFD311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ACD-DF3A-4B64-8CB8-97EF4753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2AB-5AC6-4AE7-B717-49A3FD4D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BBA-E396-4A05-98B1-E22D526C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E97-48FF-4856-9EE8-B3200231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4DDD-EB9F-40E9-94A1-8A204EA0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B9FC-F61E-4239-9A5C-42EE9A8C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7909-D7ED-415E-803B-4D393E0F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3DF7-301C-4CFE-B95D-E190FA1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C270-D687-4635-81A6-8008BE06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D970-932F-4227-9142-6F43F640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4270-2F5E-4B43-A4EE-FB13AA4B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ADC-39D6-4E31-8D48-4AE332E0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5C05-2BCB-443C-A01B-85C62398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5480-410A-48A3-9D48-8B5F46C8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C01F-D598-4797-A308-9E96A450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CF84-2DA3-4ADF-858C-F9AB77EE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E0D2-504A-4CF1-A907-E842DFBF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4ED-7321-434A-BE92-1BAECB7D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0D6-819B-4C92-9AB2-6AA5DFD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37A-3921-43E0-8D17-1E23459C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088-CA6E-41DB-8FFC-E49D6833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243-E627-4A54-A4C3-0925988A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417-ABB0-4EB2-88F0-5E051B60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BEE-A3AB-4FD8-A139-30FCF71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439-0476-42FC-A119-24DDC8E4982A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53E3-F4BB-4044-BBCD-34ED13CF0510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56000" cy="156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of. PhDr. Vladimír Smékal, CSc.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stitut pro výzkum dětí, mládeže a rodin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SS MU, Br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OSOBNOSTNÍ A SOCIÁLNÍ PŘEDPOKLADY 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ETICKÉ KULTURY OSOBNOSTI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Jak je využívat v etické výchově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3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Osobnost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konstituce a temperamen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zaměřenosti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tylů zvládání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intelek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ebepojetí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B5C-C271-46BB-AA33-29C65DEAC3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1052640"/>
            <a:ext cx="8885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Styly morálky podle D. Wrigh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2060640"/>
          <a:ext cx="8424720" cy="4105080"/>
        </p:xfrm>
        <a:graphic>
          <a:graphicData uri="http://schemas.openxmlformats.org/drawingml/2006/table">
            <a:tbl>
              <a:tblPr/>
              <a:tblGrid>
                <a:gridCol w="1758960"/>
                <a:gridCol w="2454120"/>
                <a:gridCol w="2498760"/>
                <a:gridCol w="1712880"/>
              </a:tblGrid>
              <a:tr h="5414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x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 dospělých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RAVNĚ ZRALÝ  STYL PROSOCIÁLNÍ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rstevník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VĚDOMĚLÝ ODPOVĚD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ŽIVELNĚ PROSOCIÁL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ALKULATIVNÍ TYP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ONFORM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VLIVNITEL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YL OVLÁDANÝ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ULZ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MORÁLNÍ EGOCENTRICK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in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DDC-9D3F-4A70-A31E-6A3BB0FABB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Morální instance jako překlápění </a:t>
            </a:r>
            <a:br>
              <a:rPr sz="3600"/>
            </a:b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vývojového v inteindividuál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ffcc"/>
                </a:solidFill>
                <a:latin typeface="Times New Roman"/>
              </a:rPr>
              <a:t>Vývojová typologie J. Loevingerové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Jiný přístup k určení vývojových stupňů vypracovala J. Loevingerová (1969). Zabývá se otázkou, jak se během vývoje utváří v osobnosti kontrolní instance, rostoucí způsobilost kontrolovat své impulsy a podřizovat nižší vyššímu. Tento růst seberegulace se dá také charakterizovat jako vývoj jáství, svědomí, morálky, resp. jako vývoj k odpovědnosti za své činy a k ohleduplnosti (uvážlivosti) ve vztahu k druhým a ke světu vůbec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V uvažování o osobnosti jako celku budeme na tyto vývojové typy pohlížet jako na struktury, které se mohou v kterémkoliv vývojovém období zafixovat a přetrvávat; znamená to, že osobnostní vývoj se zastavil, přestože fyzicky se osobnost vyvíjí dále. Toto překlápění vývojového v interindividuální je stále častějším důsledkem nerovnoměrnosti v utváření osobnosti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8BE-FD91-442A-A0D3-7A353EE70D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69192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1341000"/>
            <a:ext cx="8896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vnímu roku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odpovídá stadium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autistické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ředsociál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druhý a třetí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normáln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být ovládán impulsy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(stadium impulsivní)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čtvrtý až osmý či desátý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přirozené být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oportunistický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Osmý či desátý až čtrnáctý či šestnáctý rok věk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obdob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konform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o šestnáctém roce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se někteří dospívající dostávají na úroveň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uvědomělo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 jednají v souladu s normou, protože ji schvalují jako svou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ovinnos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Šesté stadium předpokládá dospělost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a je označováno jako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seberealizujíc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 Jednání podle morálních norem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205-A7DC-45F5-B0EE-16DD108C8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5000"/>
            <a:ext cx="79232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ztah životních orientací a úrovně zralosti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3887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TRU-KTIVNÍ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ONZU-MEN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VŮR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idej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ni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ysli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lid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ag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závazný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ád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věc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nda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běra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ynález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B90-FD55-4C0A-B6D5-851DAA7D4D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Zdroje rozdílů mezi lidm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1828440"/>
            <a:ext cx="88963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sychologie individuálních rozdílů mezi lidmi konstatuje, že rozhodující zdroj povahových odlišností tkví v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cializ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v tradici a zvycích, které jsou přenášeny       a udržovány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nikoliv však geny), v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ýchov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a  v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dividu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etické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vysvětlování psychických rozdílů mezi lidmi končí dříve nebo později v resignaci na možnost změny osobnosti. Osobnost se tvoří spíš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A52-3650-4ADF-BA00-A197F8453991}" type="slidenum">
              <a:t>15</a:t>
            </a:fld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51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4.</a:t>
            </a:r>
            <a:br>
              <a:rPr sz="4700"/>
            </a:b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Aktuální geneze mravního činu</a:t>
            </a:r>
            <a:br>
              <a:rPr sz="4700"/>
            </a:b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rocesuální přístup k analýze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sychologických podmínek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D6B-C7F1-42AE-BE0A-0EF9D6AF8F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Kohlbergův model morálního vývoj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4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rvní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re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je nejnižší úroveň morálního vývoje. Aktivity dětí na této úrovni nevykazují žádnou internalizaci morálních hodnot; morální usuzování je určováno vnějšími odměnami a tres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Druhá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zahrnuje jedince, kteří internalizovali určité standardy, ale jde o standardy druhých (rodičů, sociálních norem atd.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V rámci třetí úrovně morálního vývoje – má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ost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jednotlivců komplexně internalizovaný morální standardy, a již žádný důvod založený na standardech druhých (Kohlberg, 1978). Např. člověk, který je na šestém stádiu konfrontován s konfliktem mezi zákonem a etickou vědomou vůlí, bude respektovat etické vědomí, i když tím riskuje svou osobní pohodu (Santrock, 1997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581-A0FD-4CC2-A27D-F46D9C3838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Komentář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hlbergův model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stojí na třech hierarchických úrovních, z nichž každá má dvě stádia. Na každém stádiu se důvody, které jedinec uvádí na obhajobu jednotlivých odpovědí na morální dilemata, stávají složitějšími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Kohlberg ujišťuje, že morální myšlení se může vyvíjet na základě výchovy, díky sociální interakci, kognitivním konfliktům, pozitivní morální atmosféře a demokratické participaci (Kohlberg, 196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ájí na spravedlnosti založený komunitní přístup k výchově, která staví na rovnosti účastníků, na „vlastnictví“ rozhodování každého člena skupiny a na učiteli, který hájí zralé morální usuzování, ale nepředkládá mravní principy autoritativním způsobem. (Harding&amp;Snyder, 1991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BA1-4C6C-4F35-A419-214128AE3B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ccccff"/>
                </a:solidFill>
                <a:latin typeface="Times New Roman"/>
              </a:rPr>
              <a:t>Selmanův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vým výzkumem R. L. Selman vytvořil stádia přejímání sociálních rolí (social role taking stages), které je možno chápat jako spojení mezi Piagetovými stádii logického usuzování a Kohlbergovými stádii morálního usuzování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Jeho model sestává ze čtyř vzájemně interagujících komponent: logického usuzování, mravního usuzování, přejímání sociálních rolí a informací (Lozzi, 1990) Seman klade důraz na úlohu zkušenosti a učení, takže pokrok v zaujímání sociální perspektivy závisí hlavně na zkušenostech člověka s druhými, včetně vhodné sociální stimulace a výchovy. Postup na vyšší úrovně zaujímání sociální perspektivy závisí hlavně na správných sociálních zkušenostech (Atwood, 199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A0B-E7C9-4737-A6CD-6F40AE9758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tto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Rozhodl jsem se, že se přestanu zabýv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studiem neživé přírod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 pokusím se pochopit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jak je to možn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že člověk sice ví, co je dobr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le dělá to, co je zlé</a:t>
            </a:r>
            <a:r>
              <a:rPr b="0" lang="en-US" sz="3200" spc="-1" strike="noStrike">
                <a:solidFill>
                  <a:srgbClr val="e0e02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kraté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310-B230-4B36-85AA-7C9366EDB0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ccff"/>
                </a:solidFill>
                <a:latin typeface="Times New Roman"/>
              </a:rPr>
              <a:t>Pět stádií morálního vývoje podle Selmana: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000" y="1628280"/>
            <a:ext cx="889632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0 (3 – 6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Děti nedovedou jasně rozlišovat mezi jejich vlastní interpretací situací a hlediskem druhéh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1 (5 – 9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čkoliv si děti uvědomují, že druzí mohou mít odlišné názory (hlediska) než oni, nejsou s to chápat tyto názory (hlediska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2 ((7 – 12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Starší děti a preadolescenti jsou s to nahlížet na své myšlenky a city z hlediska druhých, ale nejsou s to podržet obě perspektivy současně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3 ((10 – 15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dolescenti se dokáží vymanit ze svých způsobů nahlížení i z hledisek druhých, a dokáží zaujmout neutrální perspektivu třetí osob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4 (adolescence – dospělos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Lidé na této úrovni zralosti jsou s to chápat své myšlenky a jednání na více abstraktní úrovni, která zahrnuje generalizovanou societální perspektivu (Seman, 198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0DB-BB17-41D8-9C9B-66B6139373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ff"/>
                </a:solidFill>
                <a:latin typeface="Times New Roman"/>
              </a:rPr>
              <a:t>Restův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1700280"/>
            <a:ext cx="88963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a rozdíl od Piageta a Kohlberga, kteří pojednávají o logickém a morálním usuzování, James Rest poskytuje rámec pro porozumění morálnímu chování. Jeho čtyřkomponentový model obsahuje morální citlivost, morální úsudek, morální rozhodování a morální č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Rest uzavírá, že jeho návrh by měl být využit jako východisko pro formulování cílů programu etické výchov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Efektivní výchova charakteru by měla respektovat vývojové úrovně dětí a vytvářet program podle ni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F12-A6D2-41B7-BD8B-90BF34E67D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Fáze morálního rozhodován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citlivos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poznání, že existuje situace, v níž morální jednání může být žádoucí a že takové činy mohou mít následky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úsude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úsudek o tom, co je žádoucí udělat, zatím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rozhodován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zahrnuje posuzování alternativ a zvažování pro a proti ve světle jejich pravděpodobných následků pro aktéra a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či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e týká vůle a dovedností uskutečnit rozhodnutí (Rest, 1983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BB6-19E8-4770-92D7-DC3C724F10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ituační podmínk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s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Č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n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íležit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6E9-FB72-41FA-B445-F3A8FB0B7C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ispoziční podmínky čin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ztah k oblasti, která vyžaduje jednání či reagová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ijetí určitého etického kodex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A33-9821-4CCB-AA51-E5C89BA402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mentální stav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Zdrav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álad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cházející udál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4A2-7F13-4E11-9F32-6289E192EF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5.</a:t>
            </a:r>
            <a:br>
              <a:rPr sz="5400"/>
            </a:b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Jak realizovat etickou výchov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69E-4867-44CA-975B-F08BDB931E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914400"/>
            <a:ext cx="5632200" cy="539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stav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8%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harism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Times New Roman"/>
              </a:rPr>
              <a:t>,                                      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yzařován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195280" y="2133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500720" y="981000"/>
            <a:ext cx="1440" cy="9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573360"/>
            <a:ext cx="2376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ompe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574-23F3-452D-BD82-C9DEB50888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4640" y="87156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tickou výchovu lze realizovat jen  interaktivně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vat metody dramatické výchov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likovat metodu přirozených následk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t situace – umět improvizov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kušenost s vlivem eticky laděných pohádek na etickou kulturu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osofie pro děti /s dětmi - Sokrates pro šestileté školá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užívat induktivní metodu – vést žáky k vyvozování pravidel a pak je zakotvovat v kodex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CB8-4524-4562-A693-DBA36D1E01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zdělit tříd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čitel musí pracovat na sob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i institucionální a státní zaměstnanecké politiky: Podporovat prestiž a status učitelského povol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í osobní a sociální kultury – Dbát o svou pověst, nekazit si ji důvody k fámám o neuspořádaném osobním život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C3F-68C9-495B-ADE3-87A33EE882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Osnov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 je etická kultura osobn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ciální podmínky etické kultu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Osobnostní podmínky etické kultur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Aktuální geneze mravního čin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Jak realizovat etickou výchov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990-CAA1-45E8-8DE5-1696EA5A0F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jící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edsudky – odpor – přenos, protipře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ra tolerance k odliš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i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106-AB32-4006-9262-C9FDECFDAF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né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citlivosti (psychické „alergie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necitlivosti (psychosociální filtry, „slepé skvrny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sud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BAB-DEEA-403A-8195-AB840BCE21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888516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žáka a okolnosti, které jej formovaly či deformova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tendence k projekci a k haló efektu v hodnoc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sklony k atribucí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filtry zkreslující poznávání lid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8E1-BD24-4782-B0EE-D6A7590B42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2204640"/>
            <a:ext cx="888516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Závěr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FF5-1EBE-4B7B-BF6D-D24EF45A97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změně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5000" y="1915920"/>
            <a:ext cx="889632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ejsnáze lze změnit řeč člověka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tížněji se dá změnit chování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ještě méně snadná je změna smýšlení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le vůbec nejobtížnější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je změna lidského srdc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253-5162-46FF-B0AD-768A6849D9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síle víry v člově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Jednáme-li s lidmi podle toho,       jací jsou, činíme je horšími.   Jednáme-li s nimi, jako by už byli tím,             čím mohou být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zavedeme je tam, kam je chceme zavés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. W. Goe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F31-6210-4EBA-97E0-873BF43BCA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Poselstv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1989000"/>
            <a:ext cx="889632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Žij tak, jako bys žil po druh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 snaž se ve svém jednání vyvarovat chyb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teré bys v něm udělal poprv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vět je ve špatném stavu a všechno bude ještě horší, pokud každý z nás neudělá to nejlepší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Osvětimi víme, čeho je člověk schope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Hirošimy víme, co vše je v sáz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Times New Roman"/>
              </a:rPr>
              <a:t>V. E. Frank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2CE-47E2-42F2-808F-8727685928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1. Co je etická kultura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115720"/>
            <a:ext cx="86421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laté pravidlo mravnosti jako směrnice prožívání a jednání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Uplatňování empatie ve vztazích k druhým lidem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Prosociální orientac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aujímání sociální perspektiv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Respekt k oprávněným zájmům druhých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CEC-9532-4A54-A347-4515E9D2AE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981000"/>
            <a:ext cx="8829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2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ociokultur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širší podmínky života („duch doby“)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dinná situac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zice dítěte v rodině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F62-FB35-4FB2-A9C0-F8BBACA45B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Jeden z největších světových historiků 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Edward Gibbon (1737-1794)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uvádí následujících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ět hlavních příčin rozkladu a pádu římské civilizac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49600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hroucení rodinné struktury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slabení smyslu pro osobní zodpovědnost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adměrné daně, striktní řízení a vládní intervence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yhledávání takových zábav, které se stávaly stále více  hedonistickými, násilnými a nemorálními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Úpadek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náboženství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8DA-02F4-4B63-85D6-095683E43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M. Gándhí pranýřoval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ccccff"/>
                </a:solidFill>
                <a:latin typeface="Times New Roman"/>
              </a:rPr>
              <a:t>sedm moderních sociálních hřích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ku bez principů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dnikání bez morálky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hatství bez prác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chovu bez charakteru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ědu bez lidskosti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žitek bez svědomí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áboženství bez sebekáznění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976-15D3-4D1A-BDD7-585F1FA913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družené prostřed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Už Antifonés konstatoval, že </a:t>
            </a: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„Prostředí, kde se člověk zdržuje většinu dne, určuje jeho charakter.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e školní výchově se málo bere v úvahu úloha citové vazby (attache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zice dítěte v rodině, workoholismus rodičů, partnerské kri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hudoba, sociální zanedbanost vedou k morálním dilematům -  zakomplexovanosti,  sklonu krást, závidět, šikanovat, ale i k apatii a sociální necitliv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22F-6FD5-4A0B-AB2A-EBECDDD9D4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640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rovnání nejčastějších přestupků dětí a dospívajících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e veřejných školách USA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na konci třicátých a na konci osmdesátých let 20. st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032360" cy="40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4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luvení bez přihláš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Žvýkání žvýkač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lu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bíhání po chodbá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ředbíhá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edodržování  předepsaného oble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ečišťování pros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240" y="2205000"/>
            <a:ext cx="4010040" cy="38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90 -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užívání mobilu k hraní 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Užívání drog, pití alkohol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hotenství nezletilých dív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ebevraž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ásilně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Krádež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žké ublížení na zdra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erorismus, agrese a nási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F8F-1C33-4071-94FB-E9C6C56B32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6:55:10Z</dcterms:created>
  <dc:creator>Prof. PhDr. Vladimír Smékal</dc:creator>
  <dc:description/>
  <dc:language>en-US</dc:language>
  <cp:lastModifiedBy>rauchova</cp:lastModifiedBy>
  <dcterms:modified xsi:type="dcterms:W3CDTF">2009-06-12T10:15:54Z</dcterms:modified>
  <cp:revision>35</cp:revision>
  <dc:subject/>
  <dc:title>Psychologie osobnosti  ve  výchově a vedení lidí</dc:title>
</cp:coreProperties>
</file>